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F32-48DA-4044-898C-916B0B5E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557-93CB-4BC8-BD2C-02B89EE5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B10-25DF-445E-BDCC-5D48C852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43C-B991-456D-ACEF-2D7D18BE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123-5779-49A7-B736-B69013D9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7AA-D6F5-4D2A-8A15-5E298249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299-919B-4A29-BF85-893A7B57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2F1-4399-41D2-B9D9-84FA89DB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21A-CA12-4233-91FD-612581FC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C4E-058D-4CA5-A7AF-A19B7A4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473-982B-4D01-8D0F-F17A4CA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CCE-C69A-47C0-95D6-410978B8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AD16-7203-4CD3-A7DC-7F502CCB18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francopho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561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f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2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frique du N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7056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Amérique du n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119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mérique du s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985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704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21:07:47Z</dcterms:created>
  <dc:creator>user</dc:creator>
  <dc:description/>
  <dc:language>en-US</dc:language>
  <cp:lastModifiedBy>Ministry of Education</cp:lastModifiedBy>
  <dcterms:modified xsi:type="dcterms:W3CDTF">2009-10-10T07:47:32Z</dcterms:modified>
  <cp:revision>4</cp:revision>
  <dc:subject/>
  <dc:title>La francophonie</dc:title>
</cp:coreProperties>
</file>